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5EC-FA93-4EEF-880C-C76ECE1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E90-7F0E-49AF-B4AE-23E02E9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76D-45A5-4CAA-9475-CB3E9F0B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DB8-3A95-4C64-8A87-6245C492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CC9-2924-457F-ACCF-4C863E4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DFC-320F-4665-BC87-A0CF551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FCB-557D-4BC1-9DDB-635DC4BE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13B-13C1-4AA4-8CED-46CE380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3F6-E71C-4B00-8295-D4DA31CD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166-6ADE-4CB6-855C-F6BBD07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AA8-7010-4D83-8E47-06BBAD5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DD6-9CC0-44C5-8FAF-9F5D604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F13-F293-46EA-90D0-8025CF40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960" y="12952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000" y="19810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1200" y="129528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981080"/>
            <a:ext cx="119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llbil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080" y="1295280"/>
            <a:ext cx="148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81080"/>
            <a:ext cx="7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1240" y="990720"/>
            <a:ext cx="148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760" y="1981080"/>
            <a:ext cx="7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1440" y="99072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d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20280" y="198108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95360" y="12193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7240" y="191916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320" y="1066680"/>
          <a:ext cx="8915400" cy="2793960"/>
        </p:xfrm>
        <a:graphic>
          <a:graphicData uri="http://schemas.openxmlformats.org/drawingml/2006/table">
            <a:tbl>
              <a:tblPr/>
              <a:tblGrid>
                <a:gridCol w="216000"/>
                <a:gridCol w="945720"/>
                <a:gridCol w="1377720"/>
                <a:gridCol w="1594080"/>
                <a:gridCol w="1746000"/>
                <a:gridCol w="1746000"/>
                <a:gridCol w="128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1:52:51Z</dcterms:created>
  <dc:creator>Dekalb County School</dc:creator>
  <dc:description/>
  <dc:language>en-US</dc:language>
  <cp:lastModifiedBy>Dekalb County School</cp:lastModifiedBy>
  <dcterms:modified xsi:type="dcterms:W3CDTF">2012-04-13T02:35:37Z</dcterms:modified>
  <cp:revision>4</cp:revision>
  <dc:subject/>
  <dc:title>Place Value</dc:title>
</cp:coreProperties>
</file>